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F8CB98-AE90-426B-9C4F-63C681CC15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652B3E-708D-4D6C-91DB-5377BA2F61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9BC504-B02C-49B6-908E-0C758314F7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8A37D9-41C0-4771-B4B3-97610AB5F9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EB129B-16AE-4502-82C6-12D62C73FE9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EB5583-9954-4702-B5BB-068A679FC63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7359C2-EE65-4393-A8F7-B2937A5F1CB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7D8FAB-F235-448E-95A2-BB028B9BC99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07522D-DD8B-4E3E-95AF-6D1AD432424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1FAAD5-D5D2-4D18-BA30-3CDD3B322DF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F071AA-2DB9-4AD9-A76C-FC491330D76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5BE1ED-7399-4D73-9062-49EB939477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E7226D-44D4-4F3B-8E7E-AE0ACD5C70F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CD0412-EA57-4821-A7B2-751D5DC87A0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97E5AF-EA8F-4B53-BE0B-55F17CC4F07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CBF7C5-58DB-4C1E-8636-09DDE8878C4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9BE164-D560-4AEC-A961-CE3B1A564C6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BDE381-8F64-48BE-A6AE-B86A2DBE69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553887-48BD-4127-8C1E-9B5B5536E9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267808-519F-47E8-9F75-FD4FA1079C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1FA38F-FC18-4291-81A0-2213200E7D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772534-D9C1-4E60-B1E0-24AED5589B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0C4F48-91B7-407D-9365-93F40453EF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46E38B-09FC-4A79-ABCB-21A45DFDEE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914400" y="6476760"/>
            <a:ext cx="5105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471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58403D9F-810A-4A4D-A0E9-D53058069802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31/26</a:t>
            </a:fld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FB2D3E48-BC20-46FE-B4ED-C8F2090F0D6B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Group 51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" name="Rectangle 52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" name="Rectangle 53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7" name="Rectangle 54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8" name="Rectangle 55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9" name="Rectangle 56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0" name="Rectangle 57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1" name="Rectangle 58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2" name="Rectangle 59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3" name="Rectangle 60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4" name="Rectangle 61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5" name="Rectangle 62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6" name="Rectangle 63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7" name="Rectangle 64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8" name="Rectangle 65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9" name="Rectangle 66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</p:grpSp>
      <p:pic>
        <p:nvPicPr>
          <p:cNvPr id="20" name="Picture 22" descr="cid:image004.png@01D7B519.9E61D320"/>
          <p:cNvPicPr/>
          <p:nvPr/>
        </p:nvPicPr>
        <p:blipFill>
          <a:blip r:embed="rId2"/>
          <a:stretch/>
        </p:blipFill>
        <p:spPr>
          <a:xfrm>
            <a:off x="3059280" y="77760"/>
            <a:ext cx="5581440" cy="666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3" descr="cid:image004.png@01D7B519.9E61D320"/>
          <p:cNvPicPr/>
          <p:nvPr/>
        </p:nvPicPr>
        <p:blipFill>
          <a:blip r:embed="rId2"/>
          <a:stretch/>
        </p:blipFill>
        <p:spPr>
          <a:xfrm>
            <a:off x="2556000" y="692280"/>
            <a:ext cx="5581440" cy="66672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3"/>
          </p:nvPr>
        </p:nvSpPr>
        <p:spPr>
          <a:xfrm>
            <a:off x="838080" y="6476760"/>
            <a:ext cx="5181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4"/>
          </p:nvPr>
        </p:nvSpPr>
        <p:spPr>
          <a:xfrm>
            <a:off x="6552720" y="6476760"/>
            <a:ext cx="2210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D6B589B3-89EF-41BD-AB1C-BD17EB33F90D}" type="datetime">
              <a:rPr b="0" lang="en-US" sz="1000" spc="-1" strike="noStrike">
                <a:solidFill>
                  <a:srgbClr val="9a044b"/>
                </a:solidFill>
                <a:latin typeface="Verdana"/>
              </a:rPr>
              <a:t>07/31/26</a:t>
            </a:fld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24922C3D-547C-47CE-AAD5-75DC7C4310E6}" type="slidenum">
              <a:rPr b="0" lang="en-US" sz="1000" spc="-1" strike="noStrike">
                <a:solidFill>
                  <a:srgbClr val="9a044b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stat-help.com/" TargetMode="External"/><Relationship Id="rId2" Type="http://schemas.openxmlformats.org/officeDocument/2006/relationships/hyperlink" Target="http://www.stat-help.com/" TargetMode="External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45"/>
          <p:cNvSpPr/>
          <p:nvPr/>
        </p:nvSpPr>
        <p:spPr>
          <a:xfrm>
            <a:off x="838080" y="6477120"/>
            <a:ext cx="5181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00200" y="1904760"/>
            <a:ext cx="6192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600" spc="-1" strike="noStrike">
                <a:solidFill>
                  <a:srgbClr val="9a044b"/>
                </a:solidFill>
                <a:latin typeface="Verdana"/>
              </a:rPr>
              <a:t>8: SAMPLE SIZE DETERMINATION</a:t>
            </a:r>
            <a:endParaRPr b="1" lang="en-US" sz="2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600200" y="3048120"/>
            <a:ext cx="6197760" cy="31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y the </a:t>
            </a: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pow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be with you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eter Wats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ttp://imaging.mrc-cbu.cam.ac.uk/statswiki/FAQ/powerFAQ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owe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bility to correctly detect real effec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=1-P(wrongly concluding “no effect”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 usually 80%; ideally 90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oosting powe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 one-tail instead of two-tail tes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 parametric instead of non-parametric equivalen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crease sample size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crease smallest interesting effect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multivariate analyses (e.g. MANOVA) use fewer variabl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Siz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ecide smallest clinically important effec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 tells us how many needed to reliably detect this effect or a larger on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maller effects more difficult to detec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quested in APA guidelin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-values can be misleading : e.g. chi-square highly sensitive to sample size; Earth is round, p&lt;0.0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xamples of effect siz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-tests: Minimum Number of sds between 2 means to be clinically useful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gression: amount explained in outcome to be clinically useful (correlation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rosstab chi-squares: odds ratio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akker et al. (2019) Avoid using ‘canned’ effect sizes if possible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2 samples of size 10; Type I error = 0.05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40" name="Object 0"/>
          <p:cNvGraphicFramePr/>
          <p:nvPr/>
        </p:nvGraphicFramePr>
        <p:xfrm>
          <a:off x="457200" y="1703520"/>
          <a:ext cx="8228160" cy="451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03520"/>
                    <a:ext cx="8228160" cy="451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size: t-tes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cale        Group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Sd         Diff/S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ifferenc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ch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10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5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m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25.4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12.7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atio of discriminability and precis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Use own judgemen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46" name="Content Placeholder 2" descr=""/>
          <p:cNvPicPr/>
          <p:nvPr/>
        </p:nvPicPr>
        <p:blipFill>
          <a:blip r:embed="rId1"/>
          <a:stretch/>
        </p:blipFill>
        <p:spPr>
          <a:xfrm>
            <a:off x="457200" y="1603440"/>
            <a:ext cx="8229600" cy="4724280"/>
          </a:xfrm>
          <a:prstGeom prst="rect">
            <a:avLst/>
          </a:prstGeom>
          <a:ln w="0">
            <a:noFill/>
          </a:ln>
        </p:spPr>
      </p:pic>
      <p:sp>
        <p:nvSpPr>
          <p:cNvPr id="14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xample 1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rnell Medical index (CMI) (Cohen, 1992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ffee drinkers &gt; Non-Coffee drinkers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ffect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sid / CMI s.d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d = 3.5 (because CMI increases by 3.5 per person per decade)</a:t>
            </a:r>
            <a:r>
              <a:rPr b="0" lang="en-GB" sz="1600" spc="-1" strike="noStrike">
                <a:solidFill>
                  <a:srgbClr val="bababa"/>
                </a:solidFill>
                <a:latin typeface="Arial Black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xample 2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liper (1/1000ths inch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id=.001 (inch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d=.002 (prev. study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ffect= .001/.002= .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chool ruler (1/16ths inch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id=.5 (inch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d=1 (prev. study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ffect = .5/1 = .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size: rules of thumb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-test (difference in sd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OVA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207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        </a:t>
            </a: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SS(Groups)____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=</a:t>
            </a: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       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207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S(Groups)+SS(W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egression: f-sq = 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/ (1 - 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also called eta-square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Odds Ratio (also: d = ln(Odds Ratio) x sqrt(3)/pi)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Mantel-Haenszel pooled estimate available for 2xC table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[Phi = Sqrt(chi-square/N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(Cohen,1988) used in G*POW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mall   medium larg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.20      0.50    0.8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.10      0.30    0.5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.10      0.25    0.4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.02      0.15    0.3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equivalently 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=0.02  0.13   0.26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See also Haddock et al (1998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1.50      3.50    9.00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1.39      2.28    3.74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(Cox, 1970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.10      0.30    0.50]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-270720">
              <a:spcBef>
                <a:spcPts val="400"/>
              </a:spcBef>
              <a:buClr>
                <a:srgbClr val="ff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00ff"/>
                </a:solidFill>
                <a:latin typeface="Verdana"/>
              </a:rPr>
              <a:t>Chi-square increases with 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ample Siz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ample size </a:t>
            </a:r>
            <a:r>
              <a:rPr b="0" i="1" lang="en-GB" sz="1600" spc="-1" strike="noStrike">
                <a:solidFill>
                  <a:srgbClr val="9a044b"/>
                </a:solidFill>
                <a:latin typeface="Verdana"/>
              </a:rPr>
              <a:t>needed is independent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of population siz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o large a sample in a stud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economic and ethical problems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o small a sample in a stud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risk failing to find a large effect e.g. group differenc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File drawer problem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eed just enough to enable accurate detection (or power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ake sure you take account of response rates: e.g. cancer sibling study: 222 required to sample but 80% response rate will reduce sample;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ew N = 1/(1-L) x old N: New N = 278. L = proportion lost (1-80%=20%    in our exampl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Size:rules of thumb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50036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porti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1 v p2 (2x2 </a:t>
            </a:r>
            <a:r>
              <a:rPr b="0" lang="en-GB" sz="16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)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 v 0.5 (2x1 </a:t>
            </a:r>
            <a:r>
              <a:rPr b="0" lang="en-GB" sz="16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i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1 v r2 (Fisher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version formulae can be used se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ff00ff"/>
                </a:solidFill>
                <a:uFillTx/>
                <a:latin typeface="Verdana"/>
                <a:hlinkClick r:id="rId1"/>
              </a:rPr>
              <a:t>http://www.stat-help.com</a:t>
            </a:r>
            <a:r>
              <a:rPr b="0" lang="en-GB" sz="1600" spc="-1" strike="noStrike" u="sng">
                <a:solidFill>
                  <a:srgbClr val="ff00ff"/>
                </a:solidFill>
                <a:uFillTx/>
                <a:latin typeface="Verdana"/>
                <a:hlinkClick r:id="rId2"/>
              </a:rPr>
              <a:t>/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spreadsheets.htm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cluding d, r, r^2, Odds Ratios which all measure correlati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ramer’s V extends Phi to larger 2-way t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932000" y="1599840"/>
            <a:ext cx="40323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Cohen, 1992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mall medium large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2  0.50   0.65    0.78 (p1=0.4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    0.55   0.65    0.7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1   0.10   0.29    0.46 (r2=0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Key Featur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hoice of tes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ne-tailed or Two-taile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ffect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esired pow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ype 1 error(chance of a false positiv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ample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ower evaluation methods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omogram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reeware/software on www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PSS/R syntax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ables (Look up by hand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Quick formula (Boniface, 1995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atient vs Control group: measure of spatial memory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rom earlier work on memory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mallest interesting difference (sid)=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mon group standard deviation=4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Deciding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wo independent groups; continuous Normally distributed outcome measu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ggests unpaired t-test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Nomogram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aphical display in Altman (1991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Two-tailed test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put Effect Size=sid/memory s.d.=3/4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=0.9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ad off </a:t>
            </a: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Total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sample size using a ruler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Nomogram :  N=38 (=75/2) per group; Type 1 =0.05;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81" name="Picture 4" descr="nomogram"/>
          <p:cNvPicPr/>
          <p:nvPr/>
        </p:nvPicPr>
        <p:blipFill>
          <a:blip r:embed="rId1"/>
          <a:stretch/>
        </p:blipFill>
        <p:spPr>
          <a:xfrm>
            <a:off x="1619280" y="1773360"/>
            <a:ext cx="72612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Useful websites (see CBU website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298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NOVAs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math.yorku.ca/SCS/Online/power/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soton.ac.uk/~cpd/anovas/datasets/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downloadable program from CP Doncaster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Input help on above CP Doncaster program: http://imaging.mrc-cbu.cam.ac.uk/statswiki/FAQ/Doncaster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-tests at: http://www.statisticalsolutions.net/pss_calc.php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psychometrica.de/effect_size.html computes Cohen’s 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98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GRESSION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danielsoper.com/statcalc/#c1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albany.edu/faculty/rfh64/power/power.html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98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ORE GENERAL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powerandsamplesize.com/Calculators/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9a044b"/>
                </a:solidFill>
                <a:uFillTx/>
                <a:latin typeface="Verdana"/>
              </a:rPr>
              <a:t>http://www.aprendelo.com/rec/power-calculator.html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stattools.net/StatToolsIndex.php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calculators.stat.ucla.edu/powercalc/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This site is to not currently available - “check again later”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Power computations using softwa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put: Type 1 error, Effect Size +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eith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power </a:t>
            </a: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o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sample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put power: output = sample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put sample size: output = pow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     </a:t>
            </a: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DEMO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GPOW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PEPI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SPREADSHEE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R (http://www.statmethods.net/stats/power.html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SPSS (also has in-built routines added V27+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Freewa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*Power (versions 2 and 3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ttp://www.psycho.uni-duesseldorf.de/aap/projects/gpower/index.htm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Also has an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on-line manual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with applications to AN(C)OVAs and chi-squar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Correlations and group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ttp://www.sagebrushpress.com/PEPI.htm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Hypothesis Testing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Specify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ull Hypothesis - no effec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lternative Hypothesis - an effec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o a statistical test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bability of a false positive resul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G*POWER 3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pic>
        <p:nvPicPr>
          <p:cNvPr id="193" name="Picture 2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3916440" cy="4724640"/>
          </a:xfrm>
          <a:prstGeom prst="rect">
            <a:avLst/>
          </a:prstGeom>
          <a:ln w="0">
            <a:noFill/>
          </a:ln>
        </p:spPr>
      </p:pic>
      <p:sp>
        <p:nvSpPr>
          <p:cNvPr id="194" name="Oval 5"/>
          <p:cNvSpPr/>
          <p:nvPr/>
        </p:nvSpPr>
        <p:spPr>
          <a:xfrm>
            <a:off x="5796000" y="5732640"/>
            <a:ext cx="863640" cy="8650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cxnSp>
        <p:nvCxnSpPr>
          <p:cNvPr id="195" name="Straight Arrow Connector 7"/>
          <p:cNvCxnSpPr/>
          <p:nvPr/>
        </p:nvCxnSpPr>
        <p:spPr>
          <a:xfrm>
            <a:off x="3850920" y="5589360"/>
            <a:ext cx="2089800" cy="432360"/>
          </a:xfrm>
          <a:prstGeom prst="straightConnector1">
            <a:avLst/>
          </a:prstGeom>
          <a:ln w="38160">
            <a:solidFill>
              <a:srgbClr val="9a044b"/>
            </a:solidFill>
            <a:miter/>
            <a:tailEnd len="med" type="arrow" w="med"/>
          </a:ln>
        </p:spPr>
      </p:cxnSp>
      <p:sp>
        <p:nvSpPr>
          <p:cNvPr id="196" name="Oval 8"/>
          <p:cNvSpPr/>
          <p:nvPr/>
        </p:nvSpPr>
        <p:spPr>
          <a:xfrm>
            <a:off x="5867280" y="4581360"/>
            <a:ext cx="865440" cy="86364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7" name="TextBox 9"/>
          <p:cNvSpPr/>
          <p:nvPr/>
        </p:nvSpPr>
        <p:spPr>
          <a:xfrm>
            <a:off x="6732720" y="4149720"/>
            <a:ext cx="1726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Sample size required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8" name="TextBox 10"/>
          <p:cNvSpPr/>
          <p:nvPr/>
        </p:nvSpPr>
        <p:spPr>
          <a:xfrm>
            <a:off x="6588000" y="5805360"/>
            <a:ext cx="230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Click calculate button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9" name="TextBox 11"/>
          <p:cNvSpPr/>
          <p:nvPr/>
        </p:nvSpPr>
        <p:spPr>
          <a:xfrm>
            <a:off x="324000" y="3429000"/>
            <a:ext cx="201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Enter ingredients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0" name="Oval 12"/>
          <p:cNvSpPr/>
          <p:nvPr/>
        </p:nvSpPr>
        <p:spPr>
          <a:xfrm>
            <a:off x="3780000" y="4221000"/>
            <a:ext cx="936360" cy="11527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cxnSp>
        <p:nvCxnSpPr>
          <p:cNvPr id="201" name="Straight Arrow Connector 14"/>
          <p:cNvCxnSpPr>
            <a:stCxn id="199" idx="2"/>
          </p:cNvCxnSpPr>
          <p:nvPr/>
        </p:nvCxnSpPr>
        <p:spPr>
          <a:xfrm>
            <a:off x="1332000" y="4258800"/>
            <a:ext cx="2232720" cy="322920"/>
          </a:xfrm>
          <a:prstGeom prst="straightConnector1">
            <a:avLst/>
          </a:prstGeom>
          <a:ln w="38160">
            <a:solidFill>
              <a:srgbClr val="9a0049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an also obtain Cohen’s effect size rules of thumb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pic>
        <p:nvPicPr>
          <p:cNvPr id="204" name="Picture 2" descr=""/>
          <p:cNvPicPr/>
          <p:nvPr/>
        </p:nvPicPr>
        <p:blipFill>
          <a:blip r:embed="rId1"/>
          <a:stretch/>
        </p:blipFill>
        <p:spPr>
          <a:xfrm>
            <a:off x="2614680" y="1600200"/>
            <a:ext cx="3914640" cy="4724280"/>
          </a:xfrm>
          <a:prstGeom prst="rect">
            <a:avLst/>
          </a:prstGeom>
          <a:ln w="0">
            <a:noFill/>
          </a:ln>
        </p:spPr>
      </p:pic>
      <p:sp>
        <p:nvSpPr>
          <p:cNvPr id="205" name="TextBox 5"/>
          <p:cNvSpPr/>
          <p:nvPr/>
        </p:nvSpPr>
        <p:spPr>
          <a:xfrm>
            <a:off x="250920" y="3068640"/>
            <a:ext cx="230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Just hover cursor over effect size box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cxnSp>
        <p:nvCxnSpPr>
          <p:cNvPr id="206" name="Straight Arrow Connector 7"/>
          <p:cNvCxnSpPr/>
          <p:nvPr/>
        </p:nvCxnSpPr>
        <p:spPr>
          <a:xfrm flipV="1">
            <a:off x="826920" y="4580640"/>
            <a:ext cx="3314160" cy="72360"/>
          </a:xfrm>
          <a:prstGeom prst="straightConnector1">
            <a:avLst/>
          </a:prstGeom>
          <a:ln w="38160">
            <a:solidFill>
              <a:srgbClr val="9a044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egression : uses R</a:t>
            </a:r>
            <a:r>
              <a:rPr b="1" lang="en-GB" sz="20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/(1-R</a:t>
            </a:r>
            <a:r>
              <a:rPr b="1" lang="en-GB" sz="20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pic>
        <p:nvPicPr>
          <p:cNvPr id="209" name="Picture 2" descr=""/>
          <p:cNvPicPr/>
          <p:nvPr/>
        </p:nvPicPr>
        <p:blipFill>
          <a:blip r:embed="rId1"/>
          <a:stretch/>
        </p:blipFill>
        <p:spPr>
          <a:xfrm>
            <a:off x="2484360" y="1700280"/>
            <a:ext cx="39150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ore freewa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ute power for regression, chi-squares, t-tests; report summar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mc.vanderbilt.edu/prevmed/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Power and Sample Size (PS) downloa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epibiostat.ucsf.edu/biostat/sampsize.html#PCSiz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n also input data for nonparametric  tests and other procedures to compute effect sizes  at http://www.ai-therapy.com/psychology-statistics/effect-size-calculato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Incorporating into a repor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15" name="Picture 4" descr=""/>
          <p:cNvPicPr/>
          <p:nvPr/>
        </p:nvPicPr>
        <p:blipFill>
          <a:blip r:embed="rId1"/>
          <a:stretch/>
        </p:blipFill>
        <p:spPr>
          <a:xfrm>
            <a:off x="457200" y="1784520"/>
            <a:ext cx="8229600" cy="43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Tables (Kraemer and Thiemann, 1987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roup difference= 3, group St. Dev = 4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Symbol"/>
                <a:ea typeface="Symbol"/>
              </a:rPr>
              <a:t>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= </a:t>
            </a:r>
            <a:r>
              <a:rPr b="0" lang="en-GB" sz="1600" spc="-1" strike="noStrike" u="sng">
                <a:solidFill>
                  <a:srgbClr val="9a044b"/>
                </a:solidFill>
                <a:uFillTx/>
                <a:latin typeface="Verdana"/>
              </a:rPr>
              <a:t>_____(3/4)_____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qrt((3/4*3/4)+4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= 0.35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wer = 0.9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ype 1 = 0.0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put Two-tail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terpolating from t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42 per group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Power Curves: group means differ by 3; Group sds of 4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22" name="Object 0"/>
          <p:cNvGraphicFramePr/>
          <p:nvPr/>
        </p:nvGraphicFramePr>
        <p:xfrm>
          <a:off x="457200" y="1960560"/>
          <a:ext cx="8229600" cy="400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3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960560"/>
                    <a:ext cx="8229600" cy="400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4" name="Line 5"/>
          <p:cNvSpPr/>
          <p:nvPr/>
        </p:nvSpPr>
        <p:spPr>
          <a:xfrm>
            <a:off x="1371600" y="3505320"/>
            <a:ext cx="4876920" cy="0"/>
          </a:xfrm>
          <a:prstGeom prst="line">
            <a:avLst/>
          </a:prstGeom>
          <a:ln cap="sq"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5" name="Line 6"/>
          <p:cNvSpPr/>
          <p:nvPr/>
        </p:nvSpPr>
        <p:spPr>
          <a:xfrm>
            <a:off x="3581280" y="3505320"/>
            <a:ext cx="0" cy="1904760"/>
          </a:xfrm>
          <a:prstGeom prst="line">
            <a:avLst/>
          </a:prstGeom>
          <a:ln cap="sq" w="3816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6" name="Line 7"/>
          <p:cNvSpPr/>
          <p:nvPr/>
        </p:nvSpPr>
        <p:spPr>
          <a:xfrm>
            <a:off x="6248520" y="3505320"/>
            <a:ext cx="0" cy="1904760"/>
          </a:xfrm>
          <a:prstGeom prst="line">
            <a:avLst/>
          </a:prstGeom>
          <a:ln cap="sq" w="3816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Quick formula (Boniface, 1995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roup difference=3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variance=4*4=16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ype 1=0.0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wo-tail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wer &gt;=70%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if &gt;=5 per group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15.3664*16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= 27.3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3*3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28 per group;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9a044b"/>
                </a:solidFill>
                <a:latin typeface="Verdana"/>
              </a:rPr>
              <a:t>Power=79%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Unequal sample sizes (Nomogram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 TOTAL number used for equal sample siz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 a formula to obtain new TOTAL for unequal groups siz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Nomogram: unequal group sizes, 90% Powe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put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tal Number=75 in our exampl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tio sizes: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roup 2 / group 1=2 in our exampl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tal Number =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9a044b"/>
                </a:solidFill>
                <a:uFillTx/>
                <a:latin typeface="Verdana"/>
              </a:rPr>
              <a:t>75x(1+2)x(1+2)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= 8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4 x 2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ample sizes 29 and 58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Hypothesis Testing (2)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                         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True situa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Decision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No Effect          Effect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o Effect         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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Type 2 (False ‘-’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p=1-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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            (p=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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ffect     Type 1 (False ‘+’)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ff9900"/>
                </a:solidFill>
                <a:latin typeface="Symbol"/>
                <a:ea typeface="Symbol"/>
              </a:rPr>
              <a:t></a:t>
            </a:r>
            <a:r>
              <a:rPr b="0" lang="en-GB" sz="1800" spc="-1" strike="noStrike">
                <a:solidFill>
                  <a:srgbClr val="ff9900"/>
                </a:solidFill>
                <a:latin typeface="Verdana"/>
              </a:rPr>
              <a:t>=POW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p=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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          </a:t>
            </a:r>
            <a:r>
              <a:rPr b="0" lang="en-GB" sz="1800" spc="-1" strike="noStrike">
                <a:solidFill>
                  <a:srgbClr val="ff9900"/>
                </a:solidFill>
                <a:latin typeface="Verdana"/>
              </a:rPr>
              <a:t>(p=1- </a:t>
            </a:r>
            <a:r>
              <a:rPr b="0" lang="en-GB" sz="1800" spc="-1" strike="noStrike">
                <a:solidFill>
                  <a:srgbClr val="ff9900"/>
                </a:solidFill>
                <a:latin typeface="Symbol"/>
                <a:ea typeface="Symbol"/>
              </a:rPr>
              <a:t></a:t>
            </a:r>
            <a:r>
              <a:rPr b="0" lang="en-GB" sz="1800" spc="-1" strike="noStrike">
                <a:solidFill>
                  <a:srgbClr val="ff9900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Unequal group sizes:Web Softwa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 Calculator: input any group size and obtain a power valu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EPI: specify ratio of 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Unequal samples:Kraemer &amp; Thieman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nequal group sizes : new effect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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_____(3/4)_____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= 0.3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qrt((3/4*3/4)+4.5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ok up in tables as before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Unequal samples (Boniface method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ew N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11.195*varianc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d*si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twice N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Another formula (90% power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npaired t-test for 2 groups of possibly unequal siz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1 * SD * SD * (1 + N2/N1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_______________________ = sample size in group 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0"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2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DIFFERENCE IN MEAN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our examp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1 * 4 * 4 * (1 + 1) / (3*3) = 39 per grou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Power Curves: group means differ  by 3; group sds = 4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52" name="Object 4"/>
          <p:cNvGraphicFramePr/>
          <p:nvPr/>
        </p:nvGraphicFramePr>
        <p:xfrm>
          <a:off x="461880" y="1965240"/>
          <a:ext cx="8218440" cy="399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1880" y="1965240"/>
                    <a:ext cx="8218440" cy="399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4" name="Line 5"/>
          <p:cNvSpPr/>
          <p:nvPr/>
        </p:nvSpPr>
        <p:spPr>
          <a:xfrm flipV="1">
            <a:off x="1600200" y="2971800"/>
            <a:ext cx="4952880" cy="76320"/>
          </a:xfrm>
          <a:prstGeom prst="line">
            <a:avLst/>
          </a:prstGeom>
          <a:ln cap="sq"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5" name="Line 6"/>
          <p:cNvSpPr/>
          <p:nvPr/>
        </p:nvSpPr>
        <p:spPr>
          <a:xfrm>
            <a:off x="5867280" y="2971800"/>
            <a:ext cx="0" cy="1981080"/>
          </a:xfrm>
          <a:prstGeom prst="line">
            <a:avLst/>
          </a:prstGeom>
          <a:ln cap="sq" w="3816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6" name="Line 7"/>
          <p:cNvSpPr/>
          <p:nvPr/>
        </p:nvSpPr>
        <p:spPr>
          <a:xfrm>
            <a:off x="6553080" y="2971800"/>
            <a:ext cx="0" cy="2057400"/>
          </a:xfrm>
          <a:prstGeom prst="line">
            <a:avLst/>
          </a:prstGeom>
          <a:ln cap="sq" w="3816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Power=0.90, N</a:t>
            </a:r>
            <a:r>
              <a:rPr b="1" i="1" lang="en-GB" sz="2000" spc="-1" strike="noStrike" baseline="-25000">
                <a:solidFill>
                  <a:srgbClr val="9a044b"/>
                </a:solidFill>
                <a:latin typeface="Verdana"/>
              </a:rPr>
              <a:t>2</a:t>
            </a: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=2N</a:t>
            </a:r>
            <a:r>
              <a:rPr b="1" i="1" lang="en-GB" sz="20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, 2-tailed Type 1 =0.05, sid=3, sd=4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omogram &amp; PEPI &amp;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lculator &amp; Pow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urves: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Sum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-----------------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38  38   76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eq 29  58   8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or equal samples of size n to get unequal sample sizes , N1/N2=k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2 = 0.5n(1+(1/k)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1 = 0.5n(1+k) – see Lehana Thabane pdf in the demo fold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ables:  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Sum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------------------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   42  42    84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eq    30  60    9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on’e: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um Pow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---------------------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28 28  56   79%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eq 20 40  60   80%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nfidence Interval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obtain 95% Confidence intervals for effect siz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 method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symptotic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ootstra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DEMO: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T VALUES.SAV, POWER DATA.SAV AND NONC SAMPLE T.SAV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BOOT_COHENSD_CI.TX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(See also MBESS in R (eta^2 CIs) and Geoff Cumming ESCI Excel programme for Cohen’s d CI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Obtaining power for ANOVA data using menus in SPS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eed entire (perhaps, simulated) group data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or between subjects anovas power can be obtained by asking for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observed pow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in analyze:general linear model:univariate:options or analyze:general linear model:repeated measures:options menus when doing between and repeated measures anovas respectivel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is is then added as a column in the ANOVA tab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eld (2005) suggests only using single df tests to compute power for ANOVAS http://imaging.mrc-cbu.cam.ac.uk/statswiki/FAQ/rField.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Conclus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mportant consideration in study feasibility (e.g. in grant proposal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afeguards in the case of null resul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lose agreement between method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 can be boosted using equal sized groups, higher Type 1 error (e.g. 1 tailed tests), larger effect sizes and univariate analyses,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graphicFrame>
        <p:nvGraphicFramePr>
          <p:cNvPr id="271" name="Object 3"/>
          <p:cNvGraphicFramePr/>
          <p:nvPr/>
        </p:nvGraphicFramePr>
        <p:xfrm>
          <a:off x="457200" y="1447920"/>
          <a:ext cx="822816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816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3" name="Rectangle 4"/>
          <p:cNvSpPr/>
          <p:nvPr/>
        </p:nvSpPr>
        <p:spPr>
          <a:xfrm>
            <a:off x="457200" y="2133720"/>
            <a:ext cx="2743200" cy="76176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4" name="AutoShape 5"/>
          <p:cNvSpPr/>
          <p:nvPr/>
        </p:nvSpPr>
        <p:spPr>
          <a:xfrm>
            <a:off x="3352680" y="2057400"/>
            <a:ext cx="914400" cy="9907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5" name="Rectangle 6"/>
          <p:cNvSpPr/>
          <p:nvPr/>
        </p:nvSpPr>
        <p:spPr>
          <a:xfrm>
            <a:off x="4419720" y="1828800"/>
            <a:ext cx="4419360" cy="106668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Decide one or two-tailed 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(significance level)</a:t>
            </a:r>
            <a:r>
              <a:rPr b="0" i="1" lang="en-GB" sz="2400" spc="-1" strike="noStrike">
                <a:solidFill>
                  <a:srgbClr val="babab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6" name="AutoShape 7"/>
          <p:cNvSpPr/>
          <p:nvPr/>
        </p:nvSpPr>
        <p:spPr>
          <a:xfrm>
            <a:off x="6553080" y="2895480"/>
            <a:ext cx="486000" cy="685800"/>
          </a:xfrm>
          <a:prstGeom prst="downArrow">
            <a:avLst>
              <a:gd name="adj1" fmla="val 50000"/>
              <a:gd name="adj2" fmla="val 35278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7" name="Text Box 8"/>
          <p:cNvSpPr/>
          <p:nvPr/>
        </p:nvSpPr>
        <p:spPr>
          <a:xfrm>
            <a:off x="228600" y="3809880"/>
            <a:ext cx="182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8" name="Rectangle 10"/>
          <p:cNvSpPr/>
          <p:nvPr/>
        </p:nvSpPr>
        <p:spPr>
          <a:xfrm>
            <a:off x="0" y="3429000"/>
            <a:ext cx="1752480" cy="914400"/>
          </a:xfrm>
          <a:prstGeom prst="rect">
            <a:avLst/>
          </a:prstGeom>
          <a:solidFill>
            <a:srgbClr val="ff9900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9" name="Rectangle 11"/>
          <p:cNvSpPr/>
          <p:nvPr/>
        </p:nvSpPr>
        <p:spPr>
          <a:xfrm>
            <a:off x="2286000" y="3581280"/>
            <a:ext cx="2666880" cy="45720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Decide Sample Size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0" name="AutoShape 12"/>
          <p:cNvSpPr/>
          <p:nvPr/>
        </p:nvSpPr>
        <p:spPr>
          <a:xfrm>
            <a:off x="1752480" y="3581280"/>
            <a:ext cx="533520" cy="533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1" name="Rectangle 13"/>
          <p:cNvSpPr/>
          <p:nvPr/>
        </p:nvSpPr>
        <p:spPr>
          <a:xfrm>
            <a:off x="5715000" y="3581280"/>
            <a:ext cx="2362320" cy="53352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2" name="Rectangle 14"/>
          <p:cNvSpPr/>
          <p:nvPr/>
        </p:nvSpPr>
        <p:spPr>
          <a:xfrm>
            <a:off x="2438280" y="4876920"/>
            <a:ext cx="2514600" cy="53316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Find Sample Size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3" name="Rectangle 15"/>
          <p:cNvSpPr/>
          <p:nvPr/>
        </p:nvSpPr>
        <p:spPr>
          <a:xfrm>
            <a:off x="5715000" y="4876920"/>
            <a:ext cx="2666880" cy="45720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Decide Power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4" name="AutoShape 16"/>
          <p:cNvSpPr/>
          <p:nvPr/>
        </p:nvSpPr>
        <p:spPr>
          <a:xfrm>
            <a:off x="5029200" y="4876920"/>
            <a:ext cx="609480" cy="533160"/>
          </a:xfrm>
          <a:prstGeom prst="leftArrow">
            <a:avLst>
              <a:gd name="adj1" fmla="val 50000"/>
              <a:gd name="adj2" fmla="val 28579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5" name="AutoShape 17"/>
          <p:cNvSpPr/>
          <p:nvPr/>
        </p:nvSpPr>
        <p:spPr>
          <a:xfrm>
            <a:off x="5029200" y="3505320"/>
            <a:ext cx="609480" cy="533160"/>
          </a:xfrm>
          <a:prstGeom prst="leftArrow">
            <a:avLst>
              <a:gd name="adj1" fmla="val 50000"/>
              <a:gd name="adj2" fmla="val 28579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bababa"/>
                </a:solidFill>
                <a:latin typeface="Verdana"/>
              </a:rPr>
              <a:t>Decide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7" name="Rectangle 20"/>
          <p:cNvSpPr/>
          <p:nvPr/>
        </p:nvSpPr>
        <p:spPr>
          <a:xfrm>
            <a:off x="0" y="3733920"/>
            <a:ext cx="163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Find Power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8" name="Rectangle 21"/>
          <p:cNvSpPr/>
          <p:nvPr/>
        </p:nvSpPr>
        <p:spPr>
          <a:xfrm>
            <a:off x="913680" y="2286000"/>
            <a:ext cx="212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Decide</a:t>
            </a:r>
            <a:r>
              <a:rPr b="0" i="1" lang="en-GB" sz="2400" spc="-1" strike="noStrike">
                <a:solidFill>
                  <a:srgbClr val="bababa"/>
                </a:solidFill>
                <a:latin typeface="Times New Roman"/>
              </a:rPr>
              <a:t> </a:t>
            </a: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analysis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9" name="Rectangle 22"/>
          <p:cNvSpPr/>
          <p:nvPr/>
        </p:nvSpPr>
        <p:spPr>
          <a:xfrm>
            <a:off x="5712120" y="3657600"/>
            <a:ext cx="231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Decide effect size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0" name="AutoShape 23"/>
          <p:cNvSpPr/>
          <p:nvPr/>
        </p:nvSpPr>
        <p:spPr>
          <a:xfrm>
            <a:off x="6588000" y="4149720"/>
            <a:ext cx="486000" cy="685800"/>
          </a:xfrm>
          <a:prstGeom prst="downArrow">
            <a:avLst>
              <a:gd name="adj1" fmla="val 50000"/>
              <a:gd name="adj2" fmla="val 35278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1" name="TextBox 1"/>
          <p:cNvSpPr/>
          <p:nvPr/>
        </p:nvSpPr>
        <p:spPr>
          <a:xfrm>
            <a:off x="914400" y="5410080"/>
            <a:ext cx="689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Baker and Mudge (2012(9), Significance magazine) however suggest combining Type I and II errors to determine N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veritt BS, 1995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Power i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“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The probability of rejecting the</a:t>
            </a:r>
            <a:r>
              <a:rPr b="0" i="1" lang="en-GB" sz="2400" spc="-1" strike="noStrike">
                <a:solidFill>
                  <a:srgbClr val="9a044b"/>
                </a:solidFill>
                <a:latin typeface="Verdana"/>
              </a:rPr>
              <a:t> null hypothesis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when it is false. Power gives a method of discriminating between competing tests of the same hypotheses, the test with the higher power being preferred.”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eferenc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Aberson CL (2010) Applied power analysis for the behavioral sciences. Routledge:London. </a:t>
            </a: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Contains SPSS syntax for a variety of power analyses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Altman DG (1991) Practical Statistics for Medical Research. Chapman &amp; Hall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Boniface DR (1995) “Experiment Design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and Statistical Methods for Behavioural and Social Research.” Chapman &amp; Hall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Field A. (2005) Discovering Statistics using SPSS. Sage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(section on power in ANOVAs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Kraemer HC and Thiemann S (1987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“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ow Many Subjects? Statistical Power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Analysis in Research.” Sage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Other formulae for sample sizes: See Lehana Thabane’s class notes (pdf file in demo folder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Next week… 11am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atent variable models: factor analysis and all th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ower = 1 - Type II erro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ype 1 Error is area in yello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wer in blue lin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riterion Value is black lin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wer increases with Type 1 erro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16" name="Picture 5" descr="norms"/>
          <p:cNvPicPr/>
          <p:nvPr/>
        </p:nvPicPr>
        <p:blipFill>
          <a:blip r:embed="rId1"/>
          <a:stretch/>
        </p:blipFill>
        <p:spPr>
          <a:xfrm>
            <a:off x="4648320" y="2077920"/>
            <a:ext cx="4038480" cy="376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ype I error (</a:t>
            </a:r>
            <a:r>
              <a:rPr b="1" lang="en-GB" sz="2000" spc="-1" strike="noStrike">
                <a:solidFill>
                  <a:srgbClr val="bababa"/>
                </a:solidFill>
                <a:latin typeface="Symbol"/>
                <a:ea typeface="Symbol"/>
              </a:rPr>
              <a:t>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rongly reject the “no effect” hypothesis, ie P(false positive result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ually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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0.05 or 0.0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ze of Type 1 error specified before data collection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rediction of differenc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Specified before the data is collected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Two-tail</a:t>
            </a: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 is </a:t>
            </a:r>
            <a:r>
              <a:rPr b="1" i="1" lang="en-GB" sz="2000" spc="-1" strike="noStrike">
                <a:solidFill>
                  <a:srgbClr val="3299cc"/>
                </a:solidFill>
                <a:latin typeface="Verdana"/>
              </a:rPr>
              <a:t>non-directional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(e.g. Mean = 0 vs Mean </a:t>
            </a:r>
            <a:r>
              <a:rPr b="0" lang="en-GB" sz="2000" spc="-1" strike="noStrike">
                <a:solidFill>
                  <a:srgbClr val="9a044b"/>
                </a:solidFill>
                <a:latin typeface="Symbol"/>
                <a:ea typeface="Symbol"/>
              </a:rPr>
              <a:t>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One-tail </a:t>
            </a: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is</a:t>
            </a: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i="1" lang="en-GB" sz="2000" spc="-1" strike="noStrike">
                <a:solidFill>
                  <a:srgbClr val="3299cc"/>
                </a:solidFill>
                <a:latin typeface="Verdana"/>
              </a:rPr>
              <a:t>directional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(e.g. Mean&lt;=0 vs Mean &gt; 0)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ype II erro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rongly conclude there is no effec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chance of a false negative result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ually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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0.2 (or even 0.1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creasing Type 1 error decreases Type 2 error and increases pow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5T10:19:37Z</dcterms:created>
  <dc:creator>peter</dc:creator>
  <dc:description/>
  <dc:language>en-US</dc:language>
  <cp:lastModifiedBy>Peter Watson</cp:lastModifiedBy>
  <dcterms:modified xsi:type="dcterms:W3CDTF">2021-09-29T12:10:00Z</dcterms:modified>
  <cp:revision>262</cp:revision>
  <dc:subject/>
  <dc:title>8: SAMPLE SIZE DETERMINATION</dc:title>
</cp:coreProperties>
</file>